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BA1-8330-4869-A98F-062D9148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45E0-4F06-410C-85A2-C8F3D9FF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0C0-5DE3-4286-A8CE-4C49B3AB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820-DF6B-4558-A560-A0DC1B13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CDC-4120-4129-8AA7-6BD1C5DA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DCC-25B8-46D2-B7B8-ABEE7078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83E-ACE0-421C-9CE4-179664EF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B89-2960-4082-958E-C5134649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84F9-7064-4A70-B8AE-0D47D125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E80-FCA7-4FEB-A809-8CE82BDC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0EB-25E1-4604-AB72-8B401A3C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FE0E-514E-4014-902D-1951AA34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1669-A7F2-4B73-B558-456C5D45F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a “Sn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say the word that appears before I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eac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wor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anothe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el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ei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uc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32:00Z</dcterms:created>
  <dc:creator>Wake County Public Schools</dc:creator>
  <dc:description/>
  <dc:language>en-US</dc:language>
  <cp:lastModifiedBy>jabdella</cp:lastModifiedBy>
  <dcterms:modified xsi:type="dcterms:W3CDTF">2010-02-14T18:44:37Z</dcterms:modified>
  <cp:revision>6</cp:revision>
  <dc:subject/>
  <dc:title>Words in a “Snap”</dc:title>
</cp:coreProperties>
</file>